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DF8F-F874-4BE5-AAB8-A6194142F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88F0-AF3E-4C4F-848B-1CA231768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DBBB-B49A-4ED2-8D34-7C11C56CB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A65F-2006-4ABC-8638-D462BB746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CA07-6BB5-49B3-B781-A2810CB11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2073-21F5-4C58-9B64-7F14A8C76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D142-7940-4383-B320-A627B2368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4164-5962-4C5D-B56F-49D489878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9DEF-70FA-48B4-A94A-E7BA13BF7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C730-73EB-4DF7-BE80-DCD1640B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FF15-A3B7-447D-BF53-F965417D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9AF7-F40B-4981-B762-94F6BB06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97FE2-D529-4C4D-8260-14053FD8D6C0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.co/imgres?imgurl=http://www.growingyourbaby.com/wp-content/uploads/2010/07/home_image.jpg&amp;imgrefurl=http://www.growingyourbaby.com/2010/07/16/aminals-organic-stuffed-toys-inspired-by-kids/&amp;usg=__i2kA_1g8O-39xVj-Gk2Evf22Q7g=&amp;h=396&amp;w=498&amp;sz=60&amp;hl=es&amp;start=4&amp;zoom=1&amp;itbs=1&amp;tbnid=1CjXQnFsrwvcDM:&amp;tbnh=103&amp;tbnw=130&amp;prev=/search?q=drawings+of+children+growing&amp;hl=es&amp;biw=1276&amp;bih=556&amp;gbv=2&amp;tbm=isch&amp;ei=r8bVTYikPMLngQeDmcSrBw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google.com.co/imgres?imgurl=http://images.allmoviephoto.com/2008_The_Women/2008_the_women_006.jpg&amp;imgrefurl=http://criticas-de-cine-al-estilo-mikka.blogspot.com/2008_10_01_archive.html&amp;usg=__77ChCkbdPy0B9E-R701kxMRwrSQ=&amp;h=1925&amp;w=1280&amp;sz=152&amp;hl=es&amp;start=2&amp;zoom=1&amp;itbs=1&amp;tbnid=TN__hXEFiIFL3M:&amp;tbnh=150&amp;tbnw=100&amp;prev=/search?q=images+of+women&amp;hl=es&amp;biw=1276&amp;bih=556&amp;gbv=2&amp;tbm=isch&amp;ei=2sfVTbyyLcnFgAeZ1PicBw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om.co/imgres?imgurl=http://www.vaniercollege.qc.ca/conted/insurance-of-persons/images/insurance-of-persons.jpg&amp;imgrefurl=http://www.vaniercollege.qc.ca/conted/insurance-of-persons/&amp;usg=__SHjhitCCuw1gZC8IerOwgNOwhyY=&amp;h=531&amp;w=400&amp;sz=18&amp;hl=es&amp;start=9&amp;zoom=1&amp;itbs=1&amp;tbnid=7ktPOnelTeyaOM:&amp;tbnh=132&amp;tbnw=99&amp;prev=/search?q=images+of+persons&amp;hl=es&amp;biw=1276&amp;bih=556&amp;gbv=2&amp;tbm=isch&amp;ei=NcfVTb7GB4PHgAfBkYGXBw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google.com.co/imgres?imgurl=http://faithcenter.files.wordpress.com/2008/05/little_boy-sullen.gif&amp;imgrefurl=http://faithcenter.wordpress.com/2008/05/10/the-teddy-stoddard-story-wednesday-may-14-2008/&amp;usg=__cN-W1Al7mYRhOhpBAIwYpMso9nU=&amp;h=600&amp;w=407&amp;sz=117&amp;hl=es&amp;start=2&amp;zoom=1&amp;itbs=1&amp;tbnid=q5cgJfQSYu8cTM:&amp;tbnh=135&amp;tbnw=92&amp;prev=/search?q=images+of+little+boy&amp;hl=es&amp;biw=1276&amp;bih=556&amp;gbv=2&amp;tbm=isch&amp;ei=PMjVTd_4O8LAgQeAkpmsBw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om.co/imgres?imgurl=http://www.istockphoto.com/file_thumbview_approve/5830377/2/istockphoto_5830377-small-plant.jpg&amp;imgrefurl=http://www.istockphoto.com/stock-photo-5830377-small-plant.php&amp;usg=__DEPkoIu2sNVJYQiVp5ofX83TIEY=&amp;h=285&amp;w=380&amp;sz=29&amp;hl=es&amp;start=3&amp;zoom=1&amp;itbs=1&amp;tbnid=fdQO5IDXUxah8M:&amp;tbnh=92&amp;tbnw=123&amp;prev=/search?q=images+of+a+small+plant&amp;hl=es&amp;biw=1276&amp;bih=556&amp;gbv=2&amp;tbm=isch&amp;ei=GcnVTYTLFsPLgQedxcmgBw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google.com.co/imgres?imgurl=http://www.bigplantshop.com/images/products/medium/82m.jpg&amp;imgrefurl=http://www.bigplantshop.com/shop.asp?pid=82&amp;usg=__gtWazb7_I_IQe6gtBnanVunRa7Q=&amp;h=497&amp;w=250&amp;sz=38&amp;hl=es&amp;start=11&amp;zoom=1&amp;itbs=1&amp;tbnid=JleM2wKax2xueM:&amp;tbnh=130&amp;tbnw=65&amp;prev=/search?q=images+of+a+big+plant&amp;hl=es&amp;biw=1276&amp;bih=556&amp;gbv=2&amp;tbm=isch&amp;ei=PcnVTZvoCorHgAfIrayxBw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om.co/imgres?imgurl=http://espanol.istockphoto.com/file_thumbview_approve/6054090/2/istockphoto_6054090-camphor-tree.jpg&amp;imgrefurl=http://espanol.istockphoto.com/stock-photo-6054090-camphor-tree.php&amp;usg=__zdueAIZyUwtXdwAjFSvr0Gb9nME=&amp;h=380&amp;w=302&amp;sz=74&amp;hl=es&amp;start=14&amp;zoom=1&amp;itbs=1&amp;tbnid=ZIxejn5wS5AO4M:&amp;tbnh=123&amp;tbnw=98&amp;prev=/search?q=images+of+a+tree&amp;hl=es&amp;biw=1276&amp;bih=556&amp;gbv=2&amp;tbm=isch&amp;ei=c8nVTd2lDpPqgQfU8dm3Bw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google.com.co/imgres?imgurl=http://www.ra-is.co.uk/admin/images/cms/ezytreev.jpg&amp;imgrefurl=http://www.ra-is.co.uk/ezytreev.html&amp;usg=__Wjz6BA1Rw6dbICkVvvelhhNb8bs=&amp;h=392&amp;w=340&amp;sz=139&amp;hl=es&amp;start=1&amp;zoom=1&amp;itbs=1&amp;tbnid=7UTXEn8K6nmuJM:&amp;tbnh=123&amp;tbnw=107&amp;prev=/search?q=images+of+a+small+tree&amp;hl=es&amp;biw=1276&amp;bih=556&amp;gbv=2&amp;tbm=isch&amp;ei=ocnVTduBEY7VgAeMq9GiBw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m.co/imgres?imgurl=http://www.fordogtrainers.com/ProductImages/dog-breeds-muzzles/Yorkshire-Terrier-muzzle-Yorkshire-Terrier.jpg&amp;imgrefurl=http://www.fordogtrainers.com/browseproducts/Yorkshire-Terrier-Wire-Basket-Dog-Muzzles-Size-Chart---Yorkshire-Terrier-muzzle.html&amp;usg=__LmfOmKsaDCpcqKvz9YTLrckupwU=&amp;h=390&amp;w=428&amp;sz=27&amp;hl=es&amp;start=16&amp;zoom=1&amp;itbs=1&amp;tbnid=bgj2I-5kvEnLBM:&amp;tbnh=115&amp;tbnw=126&amp;prev=/search?q=images+of+a+big+yorkshire+terrier&amp;hl=es&amp;biw=1276&amp;bih=556&amp;gbv=2&amp;tbm=isch&amp;ei=UsrVTfafF4TWgQeq17ikBw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google.com.co/imgres?imgurl=http://www.freeadsonlineuk.com/_mm/_d/_ext/19613/big_akc%20yorkshire%20terrier%20puppies01.jpg&amp;imgrefurl=http://www.freeadsonlineuk.com/advertising/akc-yorkshire-terrier-puppies&amp;usg=__vHOCnB5qBzrEE7SzeSaERIE963k=&amp;h=298&amp;w=400&amp;sz=21&amp;hl=es&amp;start=15&amp;zoom=1&amp;itbs=1&amp;tbnid=fknx5eI_PVFRwM:&amp;tbnh=92&amp;tbnw=124&amp;prev=/search?q=images+of+a+big+yorkshire+terrier&amp;hl=es&amp;biw=1276&amp;bih=556&amp;gbv=2&amp;tbm=isch&amp;ei=UsrVTfafF4TWgQeq17ikBw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com.co/imgres?imgurl=http://www.17pulgadas.com/wp-content/uploads/2011/04/kitten.jpg&amp;imgrefurl=http://www.17pulgadas.com/page/2/&amp;usg=__-egWz-t5EOGb24fQ22ZDmqUq3fQ=&amp;h=435&amp;w=600&amp;sz=79&amp;hl=es&amp;start=2&amp;zoom=1&amp;itbs=1&amp;tbnid=UbPlW7M4VixQ_M:&amp;tbnh=98&amp;tbnw=135&amp;prev=/search?q=images+of+a+kitten&amp;hl=es&amp;biw=1276&amp;bih=556&amp;gbv=2&amp;tbm=isch&amp;ei=nMrVTZnAItO_gQfho5WsBw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http://t3.gstatic.com/images?q=tbn:ANd9GcSBSIthfaWpuCuNHqJE5JkYHCTpVFWsDtXcG0PAJnDbPb2C1l-RciA4ryCz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85920" y="2000160"/>
            <a:ext cx="2523960" cy="2000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6" descr="http://t3.gstatic.com/images?q=tbn:ANd9GcRMGaTZHpFeQT71c9jg9b2YXiIqLAktzaQ1_eHJ5kfTJOxqRAblvqqJBvt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67440" y="857160"/>
            <a:ext cx="319068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2" descr="http://t3.gstatic.com/images?q=tbn:ANd9GcQSxkuzi9GYfBip0BDJeiX-xfqV8au2K2fERH92C68z_tm2ReRptnt0Tn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6200" y="857160"/>
            <a:ext cx="4032360" cy="5376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http://t0.gstatic.com/images?q=tbn:ANd9GcSU2q5Gy1M3esnj3poq-y5BzrFimh4pC6ki8oUGslZ7SkWt-fc_cD3Q63Yw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71760" y="1371600"/>
            <a:ext cx="2286000" cy="33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t2.gstatic.com/images?q=tbn:ANd9GcSvk3SaOu6owdkBTtmu7dG24rR1xT-PFwbN1lGBWaBCXOB2ISRKTUKb8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85880" y="1928880"/>
            <a:ext cx="4680000" cy="3500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http://t0.gstatic.com/images?q=tbn:ANd9GcTJhFvGfKL2lMoLPDF_gfadajI9Q6rbTmij8aftwKz8C3KmDFbwx6_Gsl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08800" y="928800"/>
            <a:ext cx="224928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t2.gstatic.com/images?q=tbn:ANd9GcRu0meI4Oabfy3rT6ZTqUHbDwWTB4IYpW_DbaXzJiF-s2YDs1ZzlEq42d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57800" y="571680"/>
            <a:ext cx="4211640" cy="5286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http://t3.gstatic.com/images?q=tbn:ANd9GcSTwzd1VNGPGOzqyBjm2gbV6kLszm78oRA89BuFVj9nPokGngtZkhwie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4560" y="2071800"/>
            <a:ext cx="26719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http://t2.gstatic.com/images?q=tbn:ANd9GcS_NWaEyQgaUQWQ8ewxsgJRK6kjK2kiYQK0T8aMGNonbwB58Q7tZN0ry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29120" y="3000240"/>
            <a:ext cx="3548160" cy="3238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http://t1.gstatic.com/images?q=tbn:ANd9GcSguspY1TtqiJaIiFVyccP5SLjEREPWrGNsj_SNVoPLzdGnZkhgGbtAww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1680" y="1071720"/>
            <a:ext cx="349236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t1.gstatic.com/images?q=tbn:ANd9GcQcPKBrTTmt1MGM3XN8jGZsYlR8jbsUkgWgUeNuDMhVZOB_dj1zuDat28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4240" y="1928880"/>
            <a:ext cx="3248280" cy="2357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http://t0.gstatic.com/images?q=tbn:ANd9GcTd5ecIabtfCg216hlyHLNu1uMGZv8XX08USbkn53MurwVh3rog2_lgEJ_ORQ"/>
          <p:cNvPicPr/>
          <p:nvPr/>
        </p:nvPicPr>
        <p:blipFill>
          <a:blip r:embed="rId3"/>
          <a:stretch/>
        </p:blipFill>
        <p:spPr>
          <a:xfrm>
            <a:off x="4357800" y="1357200"/>
            <a:ext cx="435600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0T01:24:53Z</dcterms:created>
  <dc:creator>usuario</dc:creator>
  <dc:description/>
  <dc:language>en-US</dc:language>
  <cp:lastModifiedBy>mhustad</cp:lastModifiedBy>
  <dcterms:modified xsi:type="dcterms:W3CDTF">2011-05-20T20:17:38Z</dcterms:modified>
  <cp:revision>4</cp:revision>
  <dc:subject/>
  <dc:title>Diapositiva 1</dc:title>
</cp:coreProperties>
</file>